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0AFC-6169-453D-8373-5B4472B04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A2B7-121E-48B0-899F-65DE730E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5A55-98D0-4A29-8C1E-68796DEED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CC12-6353-4CC8-B5DC-B223D3BC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2B99-4E50-420B-BC7C-2FBAC16E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4F0F-1913-4918-9E37-4F604CA0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D229-BE0D-4389-8DAD-1BBCE8D2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59AE-24C8-4041-8714-C1673942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E159-C49B-4830-BFCA-F271AA2A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29C9-F932-410E-9A39-1C6C91D0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B5FE-032F-404B-899D-72F7ED1F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C8F3-FE03-483B-8FF7-C70DD7E8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E1D6-3282-43FA-A137-54A3C2D3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51C1-3785-44AD-A17D-3A0D0E1C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A9A1-45EF-4437-8220-71C913F4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9EFA-0733-4ED2-A069-5102703B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8A41-0BEA-44B0-95C7-0BAEE0500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926E-7D09-4556-86FA-A145CEC4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8E70-390F-4CF5-83B8-D4413EC5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FDA5-0E6E-4962-BB52-8B7D25B7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064F-854B-4E35-9464-50998D07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BFFC-5783-4188-A70E-6CE44316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59D1-1750-4FB9-8127-D4F291FE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2B52-6797-482B-911A-805F501B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27A0-14E7-43B0-B4E8-5066ABA321A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2BDC-A156-4455-B35F-0E9147E9AF7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ирование адресных образовательных программ по работе с обучающимися с трудностями в обучении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4581000"/>
            <a:ext cx="4013280" cy="182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вездочетова Г.Е., учитель русского языка и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троены на основе анализа проблем подготовки участников ГИА, балансирующих на грани преодоления минимального балла по соответствующим учебным предмет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тодические рекомендац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ические рекомендации содержа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ходы к корректировке образовательных программ / примеры образовательных программ компенсирующего уровн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ходы к изменению методики работы учителя-предметни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еты по организации подготовки к ГИ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тодические рекомендац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s://fipi.ru/metodicheskaya-kopilka/metod-rekomendatsii-dlya-slabykh-shk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rcRect l="0" t="42511" r="0" b="-6258"/>
          <a:stretch/>
        </p:blipFill>
        <p:spPr>
          <a:xfrm>
            <a:off x="1042920" y="4365720"/>
            <a:ext cx="489600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"/>
          <p:cNvPicPr/>
          <p:nvPr/>
        </p:nvPicPr>
        <p:blipFill>
          <a:blip r:embed="rId2"/>
          <a:stretch/>
        </p:blipFill>
        <p:spPr>
          <a:xfrm>
            <a:off x="6372360" y="4292640"/>
            <a:ext cx="2334960" cy="1582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"/>
          <p:cNvPicPr/>
          <p:nvPr/>
        </p:nvPicPr>
        <p:blipFill>
          <a:blip r:embed="rId3"/>
          <a:stretch/>
        </p:blipFill>
        <p:spPr>
          <a:xfrm>
            <a:off x="900000" y="3573360"/>
            <a:ext cx="8028000" cy="712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"/>
          <p:cNvPicPr/>
          <p:nvPr/>
        </p:nvPicPr>
        <p:blipFill>
          <a:blip r:embed="rId4"/>
          <a:stretch/>
        </p:blipFill>
        <p:spPr>
          <a:xfrm>
            <a:off x="1187280" y="6113520"/>
            <a:ext cx="672012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езные ссылк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rcRect l="6582" t="12500" r="11538" b="12899"/>
          <a:stretch/>
        </p:blipFill>
        <p:spPr>
          <a:xfrm>
            <a:off x="709560" y="2298600"/>
            <a:ext cx="811044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езные ссылк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rcRect l="6768" t="12215" r="12412" b="6914"/>
          <a:stretch/>
        </p:blipFill>
        <p:spPr>
          <a:xfrm>
            <a:off x="826920" y="2421000"/>
            <a:ext cx="6266160" cy="35240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3"/>
          <p:cNvSpPr/>
          <p:nvPr/>
        </p:nvSpPr>
        <p:spPr>
          <a:xfrm>
            <a:off x="1012680" y="6056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s://fipi.ru/metodicheskaya-kopilka/metod-rekomendatsii-po-samostoyatelnoy-podgotovke-k-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езные ссылк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rcRect l="4239" t="12697" r="22694" b="7938"/>
          <a:stretch/>
        </p:blipFill>
        <p:spPr>
          <a:xfrm>
            <a:off x="971640" y="2421000"/>
            <a:ext cx="5918040" cy="361296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3"/>
          <p:cNvSpPr/>
          <p:nvPr/>
        </p:nvSpPr>
        <p:spPr>
          <a:xfrm>
            <a:off x="1138320" y="6033960"/>
            <a:ext cx="69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s://fipi.ru/metodicheskaya-kopilka/metod-rekomendatsii-po-samostoyatelnoy-podgotovke-k-o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езные ссылк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rcRect l="7919" t="13292" r="15445" b="17264"/>
          <a:stretch/>
        </p:blipFill>
        <p:spPr>
          <a:xfrm>
            <a:off x="826920" y="3017880"/>
            <a:ext cx="4119840" cy="20988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3"/>
          <p:cNvSpPr/>
          <p:nvPr/>
        </p:nvSpPr>
        <p:spPr>
          <a:xfrm>
            <a:off x="1187280" y="63817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s://fipi.ru/metodicheskaya-kopilka/univers-kodifikatory-o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2"/>
          <a:srcRect l="6917" t="11701" r="6187" b="34337"/>
          <a:stretch/>
        </p:blipFill>
        <p:spPr>
          <a:xfrm>
            <a:off x="5143680" y="620640"/>
            <a:ext cx="3765240" cy="1314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rcRect l="7075" t="11464" r="11111" b="15328"/>
          <a:stretch/>
        </p:blipFill>
        <p:spPr>
          <a:xfrm>
            <a:off x="5143680" y="2349360"/>
            <a:ext cx="3551040" cy="1889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rcRect l="7167" t="13649" r="11291" b="9647"/>
          <a:stretch/>
        </p:blipFill>
        <p:spPr>
          <a:xfrm>
            <a:off x="5091120" y="4437000"/>
            <a:ext cx="3343320" cy="17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61760" y="762120"/>
            <a:ext cx="792468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C%D0%BF%D0%B0%D1%81%D0%B8%D0%B1%D0%BE-%D0%B7%D0%B0-%D0%B2%D0%BD%D0%B8%D0%BC%D0%B0%D0%BD%D0%B8%D0%B5-%D0%BA%D0%B0%D1%80%D1%82%D0%B8%D0%BD%D0%BA%D0%B8-%D0%B4%D0%BB%D1%8F-%D0%BF%D1%80%D0%B5%D0%B7%D0%B5%D0%BD%D1%82%D0%B0%D1%86%D0%B8%D0%B8-%D0%BF%D0%BE%D0%B4%D0%B1%D0%BE%D1%80%D0%BA%D0%B0-36-%D1%88%D1%82%D1%83%D0%BA-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г 1 – Диагностика причин неуспешн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иболее частые причины учебной неуспешности обучающих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абая сформированность метапредметных ум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енные пробелы в базовой предметной подгот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Слабая сформированность метапредметных умений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абая сформированность читательских навыков и навыков работы с информаци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абая сформированность элементарных математических представлений (чувства числа, пространственных представлений, навыков счета и т.п.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абая сформированность навыков самоорганизации, самокоррекции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кретные проблемы в предметной подготовке (неосвоенные системообразующие элементы содержания, без владения которыми невозможно понимание следующих тем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або сформированные предметные умения, навыки и способы деятельност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Существенные пробелы в базовой предметной подготовке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тоги диагностики -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ательная картина проблем в обучении каждого класса, которая может быть взята за основу адресной корректировки методики работы учителя и образовательных програм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г 2 – Определение формы рабо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ые формы организации учебной рабо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овые формы организации учебной рабо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ые формы рабо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счет дополнительных занятий во внеурочное врем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счет выдачи обучающимся индивидуальных заданий по повторению конкретного учебного материала к определенному уро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счет обращения к ранее изученному в процессе освоения нового материа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рупповые формы работ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одинаковых существенных пробелов в предметной подготовке у значительного числа обучающихся класса требует определенной корректировки основной образовательной программы вплоть до формирования образовательной программы компенсирующего уров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27640" y="908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аг 3 – составление адресных образовательных программ по работе с обучающимися с трудностями в обучении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ие рекомендации по преподаванию учебных предметов (русского языка, литературы, математики, информатики, истории, обществознания, иностранных языков, биологии, географии, физики, химии) в образовательных организациях с высокой долей обучающихся с рисками учебной неуспешности размещены на сайте ФГБНУ «ФИПИ»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6600"/>
                </a:solidFill>
                <a:uFillTx/>
                <a:latin typeface="Arial"/>
              </a:rPr>
              <a:t>https://fipi.ru/metodicheskaya-kopilka/metod-rekomendatsii-dlya-slabykh-shk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29T06:54:19Z</dcterms:created>
  <dc:creator>User</dc:creator>
  <dc:description/>
  <dc:language>en-US</dc:language>
  <cp:lastModifiedBy>Кабинет 307</cp:lastModifiedBy>
  <dcterms:modified xsi:type="dcterms:W3CDTF">2020-11-02T11:10:25Z</dcterms:modified>
  <cp:revision>6</cp:revision>
  <dc:subject/>
  <dc:title> Формирование адресных образовательных программ по работе с обучающимися с трудностями в обучении </dc:title>
</cp:coreProperties>
</file>